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1361-4B9A-4A74-8065-0A054156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8A5-07EE-4F46-8511-545A07AE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1F8-D48E-4DCE-A8BE-E94C38AF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BDC-35D6-419D-A4E4-B614B828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F9C-466A-4DF2-B7F5-C6A21082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042F-7046-4BF6-995A-A53937CE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7039-BACC-4032-BC35-0A7058B8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816-9271-4B76-9306-75A95839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F91-F3D2-4AAA-AB14-1DE46BE1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479-507E-432E-8371-0E5D1436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B52-E029-4618-AB1C-DDB8FA59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A18F-4253-4EBB-8880-2132CF5A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D778-6662-4927-A254-C74C3B872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inventors.about.com/od/cstartinventions/a/comics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38880" y="525312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S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7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8120" y="1219320"/>
            <a:ext cx="411480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MIC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0" y="0"/>
            <a:ext cx="2209680" cy="220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2133720" cy="21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5162400"/>
            <a:ext cx="2819520" cy="1695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19520" y="4876920"/>
            <a:ext cx="4343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Rodolphe Töpffer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helm Bu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0" y="4267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6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Töpffer - Self-portrait"/>
          <p:cNvPicPr/>
          <p:nvPr/>
        </p:nvPicPr>
        <p:blipFill>
          <a:blip r:embed="rId1"/>
          <a:stretch/>
        </p:blipFill>
        <p:spPr>
          <a:xfrm>
            <a:off x="0" y="0"/>
            <a:ext cx="376236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Wilhelm Busch self-portrait"/>
          <p:cNvPicPr/>
          <p:nvPr/>
        </p:nvPicPr>
        <p:blipFill>
          <a:blip r:embed="rId2"/>
          <a:stretch/>
        </p:blipFill>
        <p:spPr>
          <a:xfrm>
            <a:off x="6767640" y="0"/>
            <a:ext cx="2376360" cy="3886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3962520"/>
            <a:ext cx="1981080" cy="2209680"/>
          </a:xfrm>
          <a:prstGeom prst="upArrow">
            <a:avLst>
              <a:gd name="adj1" fmla="val 50000"/>
              <a:gd name="adj2" fmla="val 27885"/>
            </a:avLst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4956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dolphe Töpff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4114800"/>
            <a:ext cx="2286000" cy="1905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45720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lhelmBu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52280"/>
            <a:ext cx="28954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.co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Com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11,2011, </a:t>
            </a:r>
            <a:r>
              <a:rPr b="0" lang="en-US" sz="1800" spc="-1" strike="noStrike" u="sng">
                <a:solidFill>
                  <a:srgbClr val="0099ff"/>
                </a:solidFill>
                <a:uFillTx/>
                <a:latin typeface="Arial"/>
                <a:hlinkClick r:id="rId3"/>
              </a:rPr>
              <a:t>http://inventors.about.com/od/cstartinventions/a/comic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vention: C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The invention “Comics” was made by Rodolphe 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öpffer in 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1833 and inspired Americans to make the invention called the “Comic Strip”. The first comic in America was called “Yellow Kid” in 18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MAD Magazine” was invented in 1952 by William Ga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jamin Franklin also made com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Angelo Agostini also made comics but he lives in Braz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Benjamin Franklins comic strip was called “John or Di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ventor: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odolphe Töpff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Rodolphe Töpffer was the son of a painter named Wolfgang Adam Töpffer in Geneva, Switzerl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Töpffer</a:t>
            </a:r>
            <a:r>
              <a:rPr b="1" lang="en-US" sz="14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had an eye defect so didn’t get a artistic job unlike his father who did not have the def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Fortunately, Töpffer loved literature. He loved to write short stories like one of them that are named “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Kristen ITC"/>
              </a:rPr>
              <a:t>My Uncles Library</a:t>
            </a: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”, “'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Kristen ITC"/>
              </a:rPr>
              <a:t>Nouvelles</a:t>
            </a: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Kristen ITC"/>
              </a:rPr>
              <a:t>Genevoises</a:t>
            </a: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” and “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Kristen ITC"/>
              </a:rPr>
              <a:t>Voyages en zig-zag</a:t>
            </a: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” about his adventures in Switzerl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He studies in Paris, France to become a teacher, for schools in his hometown Geneva, Switzerland and struggling to become a titular professor in the Geneva Academy of Belles-Lett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In 1895, he discovered a school for only boy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He was born January 3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Kristen ITC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 1799 and died August 6</a:t>
            </a:r>
            <a:r>
              <a:rPr b="0" lang="en-US" sz="1400" spc="-1" strike="noStrike" baseline="30000">
                <a:solidFill>
                  <a:srgbClr val="ffffff"/>
                </a:solidFill>
                <a:latin typeface="Kristen ITC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 18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He inspired Americans to make comic strips. And that’s how the invention Comics were inven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31:14Z</dcterms:created>
  <dc:creator>install</dc:creator>
  <dc:description/>
  <dc:language>en-US</dc:language>
  <cp:lastModifiedBy>install</cp:lastModifiedBy>
  <dcterms:modified xsi:type="dcterms:W3CDTF">2011-01-14T16:54:42Z</dcterms:modified>
  <cp:revision>13</cp:revision>
  <dc:subject/>
  <dc:title>Slide 1</dc:title>
</cp:coreProperties>
</file>